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0F9-3BEC-4F31-8B2B-F8DE69BB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052-9333-409A-A5C8-6781242F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9D3-C107-43BF-B62E-B5106F15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211-F733-4F69-BF0C-030E4D87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4CB-0BB7-4264-879E-2F0E5249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16E-9478-400A-A38C-7377391B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DC4-D9BA-4D07-90DC-6598C776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899-2751-480B-9F6E-0382E99C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434-712C-4412-A13A-0A64262D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88A-42B4-47A1-9FF5-CAEE429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DDB-A6EB-4BB7-BD1B-411666B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E22-614D-484F-9048-87111B8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3BB5-D1AE-4B30-87E0-D19D349FBE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dad+m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 u="sng">
                <a:solidFill>
                  <a:srgbClr val="000000"/>
                </a:solidFill>
                <a:uFillTx/>
                <a:latin typeface="comic"/>
              </a:rPr>
              <a:t>DE: </a:t>
            </a:r>
            <a:r>
              <a:rPr b="0" lang="es-ES" sz="8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Andalus"/>
                <a:ea typeface="Andalus"/>
              </a:rPr>
              <a:t>Laura Agueda Igles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Andalus"/>
                <a:ea typeface="Andalus"/>
              </a:rPr>
              <a:t>Serezade Guerr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Andalus"/>
                <a:ea typeface="Andalus"/>
              </a:rPr>
              <a:t>Sheila Mora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Andalus"/>
                <a:ea typeface="Andalus"/>
              </a:rPr>
              <a:t>Mónica Valenci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000000"/>
                </a:solidFill>
                <a:uFillTx/>
                <a:latin typeface="comic"/>
              </a:rPr>
              <a:t>BATALLAS</a:t>
            </a:r>
            <a:r>
              <a:rPr b="0" lang="es-ES" sz="9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Vemos  a dos nobles con sus ejércitos luchando por más territorio. Los que luchan en esa época se llamaban caballeros (iban montados a caballo) y los soldados (iban a pie por que no se podían permitir un caballo). En la imagen se ve que los atacantes (rojo) intentan conquistar el castillo de los oponentes (azu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iudad_Edad_Media"/>
          <p:cNvPicPr/>
          <p:nvPr/>
        </p:nvPicPr>
        <p:blipFill>
          <a:blip r:embed="rId1"/>
          <a:stretch/>
        </p:blipFill>
        <p:spPr>
          <a:xfrm>
            <a:off x="468360" y="260280"/>
            <a:ext cx="79549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000000"/>
                </a:solidFill>
                <a:uFillTx/>
                <a:latin typeface="comic"/>
              </a:rPr>
              <a:t>LA CIUDAD </a:t>
            </a:r>
            <a:r>
              <a:rPr b="0" lang="es-ES" sz="9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En la imagen anterior se ve como  eran las ciudades en la Edad Media. Aparece un mercado (donde se intercambiaban y compraban objetos ), las casas, el puente, y al fondo se ve la muralla ( protegía  a los campesinos de las batallas). Hay una iglesia gótica y un castillo al fondo de la ima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edadmedia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 u="sng">
                <a:solidFill>
                  <a:srgbClr val="000000"/>
                </a:solidFill>
                <a:uFillTx/>
                <a:latin typeface="comic"/>
              </a:rPr>
              <a:t>LOS TORNEOS</a:t>
            </a:r>
            <a:r>
              <a:rPr b="0" lang="es-ES" sz="8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Los torneos fueron eventos de competiciones de caballería en la  alta Edad Media. Eran frecuentes a causas de coronaciones, casamientos de reyes, nacimientos, bodas de príncipes, conquistas…En los torneos los caballeros junto con sus corceles iban con un gran lujo de vestimentas , con adornos, armas… Los caballeros  demostraban su fuerza, su valentía, etc. ante el pueblo y delante de  sus  amada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41128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Arte Gó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Burgos_Catedral%252520%25284%2529"/>
          <p:cNvPicPr/>
          <p:nvPr/>
        </p:nvPicPr>
        <p:blipFill>
          <a:blip r:embed="rId1"/>
          <a:stretch/>
        </p:blipFill>
        <p:spPr>
          <a:xfrm>
            <a:off x="5361120" y="0"/>
            <a:ext cx="3782880" cy="504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p7232241"/>
          <p:cNvPicPr/>
          <p:nvPr/>
        </p:nvPicPr>
        <p:blipFill>
          <a:blip r:embed="rId2"/>
          <a:stretch/>
        </p:blipFill>
        <p:spPr>
          <a:xfrm>
            <a:off x="0" y="0"/>
            <a:ext cx="3857760" cy="5143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250px-Cimabue_018"/>
          <p:cNvPicPr/>
          <p:nvPr/>
        </p:nvPicPr>
        <p:blipFill>
          <a:blip r:embed="rId3"/>
          <a:stretch/>
        </p:blipFill>
        <p:spPr>
          <a:xfrm>
            <a:off x="3635280" y="3645000"/>
            <a:ext cx="2239920" cy="229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016%2Bvirgen%2Bblanca%2Bde%2Btoledo"/>
          <p:cNvPicPr/>
          <p:nvPr/>
        </p:nvPicPr>
        <p:blipFill>
          <a:blip r:embed="rId4"/>
          <a:stretch/>
        </p:blipFill>
        <p:spPr>
          <a:xfrm>
            <a:off x="3203640" y="0"/>
            <a:ext cx="2562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 u="sng">
                <a:solidFill>
                  <a:srgbClr val="000000"/>
                </a:solidFill>
                <a:uFillTx/>
                <a:latin typeface="comic"/>
              </a:rPr>
              <a:t>	</a:t>
            </a:r>
            <a:r>
              <a:rPr b="0" lang="es-ES" sz="7200" spc="-1" strike="noStrike" u="sng">
                <a:solidFill>
                  <a:srgbClr val="000000"/>
                </a:solidFill>
                <a:uFillTx/>
                <a:latin typeface="comic"/>
              </a:rPr>
              <a:t>ARTE GOTICO</a:t>
            </a:r>
            <a:r>
              <a:rPr b="0" lang="es-ES" sz="72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ndalus"/>
                <a:ea typeface="Andalus"/>
              </a:rPr>
              <a:t>Es una denominación del estilo artístico que se desarrollo en Europa Occidental durante los últimos siglos de la Edad Media(XIII XIV y XV). Se trata de un amplio periodo artístico que surge en el Norte de Francia y se expande por todo Occidente según los países y las regiones se desarrollan en momentos cronológicos diversos, ofreciendo en su amplio desarrollo diferenciaciones profundas: mas puro en Francia, mas horizontal y cercano a la tradición clásica en Italia,  con peculiaridades locales en Flandes, Alemania, Inglaterra y Españ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comic"/>
              </a:rPr>
              <a:t>VIDEOS </a:t>
            </a:r>
            <a:r>
              <a:rPr b="0" lang="es-E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RNEO : http://www.youtube.com/watch?v=hsxkuIM4g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youtube.com/watch?v=sqgR8t3w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UDAD : http://www.youtube.com/watch?v=QOvY2gzDu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TALLAS: http://www.youtube.com/watch?v=sqgR8t3w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E GOTICO: http://www.youtube.com/watch?v=tKIXSGxI37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8:35:44Z</dcterms:created>
  <dc:creator>IR015252AG</dc:creator>
  <dc:description/>
  <dc:language>en-US</dc:language>
  <cp:lastModifiedBy>Artaza Romo Ikaslea</cp:lastModifiedBy>
  <dcterms:modified xsi:type="dcterms:W3CDTF">2014-02-21T13:11:09Z</dcterms:modified>
  <cp:revision>18</cp:revision>
  <dc:subject/>
  <dc:title>Diapositiva 1</dc:title>
</cp:coreProperties>
</file>